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89226-03CF-4CFE-9D01-C848DC9BE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A46E8-2FE8-4429-BC0E-161646343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FA5D6-CA39-4111-89E2-7CD354581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2713F-4F53-4C7B-A2F1-31DB861D6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1CA643-56C2-4798-9792-D164F0D3B4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E58A5-85FF-4A15-9BC1-3C81921712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8F159B-46EC-4550-BF0A-5FF6E6A485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625F23-EFD1-4391-9C64-6D6295D591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9CAC5B-BAA0-40F6-BFBD-78BEABFB4F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9D52B-E714-4AF8-A9D0-A3BE4ADF18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8F64B-45F5-4771-A19C-B149C79EEC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D310D-EF68-4E3F-90E1-6C81A64C6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F965F-E7E8-4A64-959E-168698DE56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CD384-3916-42CD-B9EF-7925E388CA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063FB-A513-4266-8653-0518236D2D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25663-6533-4C37-99C8-A4E2BEBA9F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CB37FE-164A-45AD-AF3E-5BE296772D6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99BFD-6E15-49EB-B204-154F417CE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147C3-BA11-4C3B-A1C6-B8D48D961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0EA1-8247-4933-AF56-69D8AD1C4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9018F-74DA-4340-A3E0-2A0A591B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3FFE-EC8F-406B-9D74-6E040752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D441-370E-46C4-9FC0-5867B1760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F5B4-17D4-4D12-B5D1-A1B98EEA7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8879-B8E8-4E45-B6C8-C2B67676714E}" type="slidenum">
              <a:rPr b="0" lang="ro-R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431B-1B5C-4A8B-9874-5EE695A5A354}" type="slidenum">
              <a:rPr b="0" lang="ro-RO"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CHITARA ŞI ACUSTICA</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chitara1"/>
          <p:cNvPicPr/>
          <p:nvPr/>
        </p:nvPicPr>
        <p:blipFill>
          <a:blip r:embed="rId1"/>
          <a:stretch/>
        </p:blipFill>
        <p:spPr>
          <a:xfrm>
            <a:off x="990720" y="609480"/>
            <a:ext cx="7315200" cy="56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ardele chitarei – coarde sonore</a:t>
            </a:r>
            <a:endParaRPr b="0" lang="en-US" sz="4000" spc="-1" strike="noStrike">
              <a:solidFill>
                <a:srgbClr val="ffffff"/>
              </a:solidFill>
              <a:latin typeface="Tahoma"/>
            </a:endParaRPr>
          </a:p>
        </p:txBody>
      </p:sp>
      <p:pic>
        <p:nvPicPr>
          <p:cNvPr id="86" name="Picture 4" descr="chitara-muzica"/>
          <p:cNvPicPr/>
          <p:nvPr/>
        </p:nvPicPr>
        <p:blipFill>
          <a:blip r:embed="rId1"/>
          <a:stretch/>
        </p:blipFill>
        <p:spPr>
          <a:xfrm>
            <a:off x="1523880" y="1523880"/>
            <a:ext cx="5867640" cy="469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Urechea </a:t>
            </a:r>
            <a:endParaRPr b="0" lang="en-US" sz="4400" spc="-1" strike="noStrike">
              <a:solidFill>
                <a:srgbClr val="ffffff"/>
              </a:solidFill>
              <a:latin typeface="Tahoma"/>
            </a:endParaRPr>
          </a:p>
        </p:txBody>
      </p:sp>
      <p:sp>
        <p:nvSpPr>
          <p:cNvPr id="88" name=""/>
          <p:cNvSpPr txBox="1"/>
          <p:nvPr/>
        </p:nvSpPr>
        <p:spPr>
          <a:xfrm>
            <a:off x="228240" y="4419360"/>
            <a:ext cx="8381880" cy="28191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urechea internă (melcul), vibraţiile mecanice generate de sursa sonoră se transformă în impulsuri electrice, care sunt transmise la creier. Legătura dintre urechea internă şi creier este realizată prin intermediul nervului auditiv.</a:t>
            </a:r>
            <a:endParaRPr b="0" lang="en-US" sz="2400" spc="-1" strike="noStrike">
              <a:solidFill>
                <a:srgbClr val="ffffff"/>
              </a:solidFill>
              <a:latin typeface="Tahoma"/>
            </a:endParaRPr>
          </a:p>
        </p:txBody>
      </p:sp>
      <p:pic>
        <p:nvPicPr>
          <p:cNvPr id="89" name="Picture 2" descr=""/>
          <p:cNvPicPr/>
          <p:nvPr/>
        </p:nvPicPr>
        <p:blipFill>
          <a:blip r:embed="rId1"/>
          <a:stretch/>
        </p:blipFill>
        <p:spPr>
          <a:xfrm>
            <a:off x="2590920" y="304920"/>
            <a:ext cx="6324480" cy="43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Părţile chitarei</a:t>
            </a:r>
            <a:endParaRPr b="0" lang="en-US" sz="4400" spc="-1" strike="noStrike">
              <a:solidFill>
                <a:srgbClr val="ffffff"/>
              </a:solidFill>
              <a:latin typeface="Tahoma"/>
            </a:endParaRPr>
          </a:p>
        </p:txBody>
      </p:sp>
      <p:pic>
        <p:nvPicPr>
          <p:cNvPr id="91" name="Picture 4" descr="19395854oz4"/>
          <p:cNvPicPr/>
          <p:nvPr/>
        </p:nvPicPr>
        <p:blipFill>
          <a:blip r:embed="rId1"/>
          <a:stretch/>
        </p:blipFill>
        <p:spPr>
          <a:xfrm>
            <a:off x="2819520" y="1074600"/>
            <a:ext cx="5713200" cy="55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Dozele de chitară</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ele sunt dispozitivele montate pe o chitară electrică permiţând preluarea vibratiei corzilor şi transformarea lor în impulsuri electrice. Impulsurile sunt introduse în amplificator, care amplifică semnalul şi îl modelează în funcţie de nevoi.</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ele sunt bobine electromagnetice creează un câmp magnetic in care oscileaza corzile chitarei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unetul emis de către o chitară electrică depinde atât de lemnul din care este construită (el influenţează vibraţia corzilor) cât şi de corzi, doze şi amplificat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Tipuri de doze</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oze “single-coi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oze “humbucker”</a:t>
            </a:r>
            <a:endParaRPr b="0" lang="en-US" sz="3200" spc="-1" strike="noStrike">
              <a:solidFill>
                <a:srgbClr val="ffffff"/>
              </a:solidFill>
              <a:latin typeface="Tahoma"/>
            </a:endParaRPr>
          </a:p>
        </p:txBody>
      </p:sp>
      <p:pic>
        <p:nvPicPr>
          <p:cNvPr id="96" name="Picture 4" descr="scyb1"/>
          <p:cNvPicPr/>
          <p:nvPr/>
        </p:nvPicPr>
        <p:blipFill>
          <a:blip r:embed="rId1"/>
          <a:stretch/>
        </p:blipFill>
        <p:spPr>
          <a:xfrm>
            <a:off x="5334120" y="1905120"/>
            <a:ext cx="2590560" cy="2273040"/>
          </a:xfrm>
          <a:prstGeom prst="rect">
            <a:avLst/>
          </a:prstGeom>
          <a:ln w="0">
            <a:noFill/>
          </a:ln>
        </p:spPr>
      </p:pic>
      <p:pic>
        <p:nvPicPr>
          <p:cNvPr id="97" name="Picture 5" descr="25088268cz8"/>
          <p:cNvPicPr/>
          <p:nvPr/>
        </p:nvPicPr>
        <p:blipFill>
          <a:blip r:embed="rId2"/>
          <a:stretch/>
        </p:blipFill>
        <p:spPr>
          <a:xfrm>
            <a:off x="4343400" y="4343400"/>
            <a:ext cx="369576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Bibliografie</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psihologie.myphpbb.eu/board/chitara-t1089.html</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emilmihaisimionescu.files.wordpress.com/2010/12/chitara1.jpg</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desktop-wallpapere.blogspot.com/2008/12/wallpapere-muzica.html</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luminitablogg.blogspot.com/2010_05_01_archive.html</a:t>
            </a:r>
            <a:endParaRPr b="0" lang="en-US" sz="32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2:55:51Z</dcterms:created>
  <dc:creator>momo</dc:creator>
  <dc:description/>
  <dc:language>en-US</dc:language>
  <cp:lastModifiedBy>Eu</cp:lastModifiedBy>
  <dcterms:modified xsi:type="dcterms:W3CDTF">2011-01-28T19:14:07Z</dcterms:modified>
  <cp:revision>5</cp:revision>
  <dc:subject/>
  <dc:title>Chitara şi acustica</dc:title>
</cp:coreProperties>
</file>